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F312-3AF6-457D-ADAD-A6BD2306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CAB-8726-45E3-B9A8-494BC363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150-F206-4B9E-8692-9ED2E3BA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969-60A6-4293-A2F6-73E4F387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3679-8488-43D8-9958-CB9602A8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4E11-B5EE-4552-867E-C0EB260C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6D40-D5D3-4444-AE80-BD787491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56C2-EFC0-4167-A9D4-825CCE84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1009-E1F1-4F11-9BE9-72832D62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CFFE-3DFF-47E6-8FE4-A33E8D8B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12C9-D77A-4373-9D07-9199B884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1D1-381E-402D-80E9-14C3DA26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7BD9-9E77-4936-980C-24EC00B6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88DC-69B1-4D5D-A635-EA046A3B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E0B7-4225-42E9-8678-1C87EE43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A7F6-911D-4649-BFCB-95C9C84B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AE62-5766-4378-8B23-A05600FD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31D-0C52-4ECE-9B5A-F3EBEE60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EBE-06BD-4D73-B6EA-3B92495F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FEB-2798-4E97-BA9E-4170789F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6BD-D767-473E-B56E-469A5847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9F3D-C206-45D1-87BB-6FC623BB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95A-AC24-4526-8DC1-A1FB3C05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32A-7E85-4603-A10D-28C1E107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BDB5-BA11-40D3-904C-B2A2CFE14E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70DB-4842-44E2-926E-767E9BF728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АМИКА ТРОШКОВ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422280" y="1841400"/>
            <a:ext cx="818820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Трошкови представљају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новчано изражене утрошке</a:t>
            </a: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 рада и средст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ласификација трошк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стоји већи број класификација у зависности од критерију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енски апс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гућност контр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Динамика трошк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еакција трошкова на промену обима активности (производња или пружање услуг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ма овом критеријума трошкови се деле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Фиксн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аријабилн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елативно-фикс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ошк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куп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Јединич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трошк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Фиксни трошк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е мењају се када се мења обим активности. Имају карактер константности без обзира на обим актив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ме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иксних трошк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амортизациј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закуп прост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осигурањ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администрације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Фиксни трошк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е мењају се када се мења обим активности. Имају карактер константности без обзира на обим актив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ме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иксних трошк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амортизациј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закуп прост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осигурањ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администрације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66" name="Picture 41" descr=""/>
          <p:cNvPicPr/>
          <p:nvPr/>
        </p:nvPicPr>
        <p:blipFill>
          <a:blip r:embed="rId1"/>
          <a:stretch/>
        </p:blipFill>
        <p:spPr>
          <a:xfrm>
            <a:off x="422280" y="1841400"/>
            <a:ext cx="788364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Варијабилни трошк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ењају се са променом обима активности. Директно су пропорционални обиму актив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ме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аријабилних трошк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материј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помоћног материј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енергиј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средстава за рад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55480" y="1841400"/>
            <a:ext cx="814248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Релативно фиксни трошк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мају карактер константности до одређеног обима активности, након чега се мењај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ме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елативно фиксних трошк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материјала за припрему активн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рада за припрему активн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специјалних ал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29T23:35:28Z</dcterms:modified>
  <cp:revision>165</cp:revision>
  <dc:subject/>
  <dc:title>Soft and Hard Skills Development: A Current Situation in Serbian Companies</dc:title>
</cp:coreProperties>
</file>